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A495-7999-48F4-83A8-2C59A7E69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4A05-BE63-4723-9B69-22C5F552D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AEE8-5F41-42D5-88A3-96E7E4EA2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5C07-739E-4565-8BA0-E166631B5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2651-20F9-4985-9BD9-5164C16F0B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39BB-20B1-4A3B-84C5-02B266FFF7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5042-9CEE-4B53-9FF2-669BE56B09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CCE8-B76A-4148-8852-6E17910CD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3153-DBE7-43D7-96FE-00C40B5AD0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4368-9B02-4CC2-BB29-716B67807B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3291-710B-42E5-9254-86E840203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6F95-A9E3-432B-9A26-F79DF5DCF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B169-4B7C-49E2-8C7C-42CECEF456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4DB5-0616-4105-8672-23C532E9A1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4CFC-7A3C-42FE-80CC-E081CADA93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2031-CC15-4E3F-9344-ED321CB93F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579A-3F53-4262-9512-A91B72448C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67F6-254E-41C9-8E0F-D138DCEA6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C627-AE44-4D97-912F-63784992C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C4AF-1A7C-4A81-8195-EC0D4835A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ECDF-6833-4B1C-BC1B-946DBAFBB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3066-D6E0-4CE1-BBCC-6991AF11E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1160-C99C-4D49-A10A-181CE21AE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CBC1-4CA3-4E90-8354-35F9209E0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1642D7-86CC-4C44-BBA2-9FC5BB32208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455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455b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79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455b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D2D4E6-3E0D-4333-9950-2DF275DF353E}" type="slidenum">
              <a:rPr b="0" lang="ru-RU" sz="1000" spc="-1" strike="noStrike">
                <a:solidFill>
                  <a:srgbClr val="ffffcc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35280" y="189000"/>
            <a:ext cx="691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5400"/>
            </a:b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Тема: </a:t>
            </a: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Предмет і метод </a:t>
            </a:r>
            <a:br>
              <a:rPr sz="4400"/>
            </a:b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бухгалтерського облік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3284640"/>
            <a:ext cx="712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uk-UA" sz="2800" spc="-1" strike="noStrike">
                <a:solidFill>
                  <a:srgbClr val="ffffcc"/>
                </a:solidFill>
                <a:latin typeface="Arial"/>
              </a:rPr>
              <a:t>.Предмет бухгалтерського обліку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cc"/>
                </a:solidFill>
                <a:latin typeface="Arial"/>
              </a:rPr>
              <a:t>2. Ресурси підприємств та їх класифікаці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Arial"/>
              </a:rPr>
              <a:t>Матеріальні активи — 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95320" y="1603440"/>
            <a:ext cx="7804080" cy="50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Arial"/>
              </a:rPr>
              <a:t>Нематеріальні активи —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603440"/>
            <a:ext cx="7772400" cy="45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nodeType="clickEffect" fill="hold">
                      <p:stCondLst>
                        <p:cond delay="0"/>
                      </p:stCondLst>
                      <p:childTnLst>
                        <p:par>
                          <p:cTn id="5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800" spc="-1" strike="noStrike">
                <a:solidFill>
                  <a:srgbClr val="ffffcc"/>
                </a:solidFill>
                <a:latin typeface="Arial"/>
              </a:rPr>
              <a:t>Фінансові активи —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8720" y="1268280"/>
            <a:ext cx="7961400" cy="558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nodeType="clickEffect" fill="hold">
                      <p:stCondLst>
                        <p:cond delay="0"/>
                      </p:stCondLst>
                      <p:childTnLst>
                        <p:par>
                          <p:cTn id="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7920" y="249120"/>
            <a:ext cx="7785360" cy="12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8720" y="1554120"/>
            <a:ext cx="785808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Arial"/>
              </a:rPr>
              <a:t>Необоротні активи —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8720" y="1695600"/>
            <a:ext cx="7864560" cy="44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nodeType="clickEffect" fill="hold">
                      <p:stCondLst>
                        <p:cond delay="0"/>
                      </p:stCondLst>
                      <p:childTnLst>
                        <p:par>
                          <p:cTn id="6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Arial"/>
              </a:rPr>
              <a:t>Оборотні активи —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077320" cy="4541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nodeType="clickEffect" fill="hold">
                      <p:stCondLst>
                        <p:cond delay="0"/>
                      </p:stCondLst>
                      <p:childTnLst>
                        <p:par>
                          <p:cTn id="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Arial"/>
              </a:rPr>
              <a:t>За ступенем ліквідності активи підприємства поділяють :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620720"/>
            <a:ext cx="7772400" cy="4530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52320" y="1579680"/>
            <a:ext cx="2773440" cy="3011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nodeType="clickEffect" fill="hold">
                      <p:stCondLst>
                        <p:cond delay="0"/>
                      </p:stCondLst>
                      <p:childTnLst>
                        <p:par>
                          <p:cTn id="8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0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Ліквідність активів підприємства —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7920" y="1596960"/>
            <a:ext cx="7839360" cy="4541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nodeType="clickEffect" fill="hold">
                      <p:stCondLst>
                        <p:cond delay="0"/>
                      </p:stCondLst>
                      <p:childTnLst>
                        <p:par>
                          <p:cTn id="9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90640" y="244440"/>
            <a:ext cx="7802640" cy="64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277920"/>
            <a:ext cx="7772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600" spc="-1" strike="noStrike">
                <a:solidFill>
                  <a:srgbClr val="ffffcc"/>
                </a:solidFill>
                <a:latin typeface="Arial"/>
              </a:rPr>
              <a:t>Поняття ліквідності активів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603440"/>
            <a:ext cx="7772400" cy="45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nodeType="clickEffect" fill="hold">
                      <p:stCondLst>
                        <p:cond delay="0"/>
                      </p:stCondLst>
                      <p:childTnLst>
                        <p:par>
                          <p:cTn id="10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22280" y="1554120"/>
            <a:ext cx="743112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71560" y="476280"/>
            <a:ext cx="8034480" cy="58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Arial"/>
              </a:rPr>
              <a:t>СУБЄКТ БУХГАЛТЕРСЬКОГО ОБЛІКУ-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84160" y="1773360"/>
            <a:ext cx="7809120" cy="1896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89680" y="3371760"/>
            <a:ext cx="292716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401760"/>
            <a:ext cx="8139240" cy="5475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4581360"/>
            <a:ext cx="3965760" cy="217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36480" y="620640"/>
            <a:ext cx="8507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400"/>
            </a:br>
            <a:br>
              <a:rPr sz="3400"/>
            </a:br>
            <a:r>
              <a:rPr b="0" lang="uk-UA" sz="34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br>
              <a:rPr sz="3400"/>
            </a:br>
            <a:br>
              <a:rPr sz="3400"/>
            </a:br>
            <a:r>
              <a:rPr b="0" lang="uk-UA" sz="3400" spc="-1" strike="noStrike">
                <a:solidFill>
                  <a:srgbClr val="ffffcc"/>
                </a:solidFill>
                <a:latin typeface="Arial"/>
              </a:rPr>
              <a:t>Об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uk-UA" sz="3400" spc="-1" strike="noStrike">
                <a:solidFill>
                  <a:srgbClr val="ffffcc"/>
                </a:solidFill>
                <a:latin typeface="Arial"/>
              </a:rPr>
              <a:t>єкти, що обліковуються за економічним змістом та призначенням можна об'єднати у три групи: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206880"/>
            <a:ext cx="8278920" cy="354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5720" y="3090960"/>
            <a:ext cx="2254320" cy="28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nodeType="clickEffect" fill="hold">
                      <p:stCondLst>
                        <p:cond delay="0"/>
                      </p:stCondLst>
                      <p:childTnLst>
                        <p:par>
                          <p:cTn id="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6480" y="1341360"/>
            <a:ext cx="5273640" cy="532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62400" y="1700280"/>
            <a:ext cx="3932280" cy="468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19640" y="2708280"/>
            <a:ext cx="2592360" cy="14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22240" y="255600"/>
            <a:ext cx="7828200" cy="123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772400" cy="568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22111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За формами функціонування           господарські активи поділяють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95320" y="1596960"/>
            <a:ext cx="77979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7920" y="249120"/>
            <a:ext cx="8553600" cy="128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7920" y="1603440"/>
            <a:ext cx="7778880" cy="4529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300720" y="3716280"/>
            <a:ext cx="2849760" cy="187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6:47:26Z</dcterms:created>
  <dc:creator>one</dc:creator>
  <dc:description/>
  <dc:language>en-US</dc:language>
  <cp:lastModifiedBy>Пользователь</cp:lastModifiedBy>
  <dcterms:modified xsi:type="dcterms:W3CDTF">2020-09-07T08:23:43Z</dcterms:modified>
  <cp:revision>64</cp:revision>
  <dc:subject/>
  <dc:title>Т.2 Предмет і метод бухгалтерського обліку</dc:title>
</cp:coreProperties>
</file>